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9FD-7B2E-4418-B2D0-F296007E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62B-0D44-4FBC-89C8-9DD9FA71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F6F-3B8E-4D08-8F57-0A6340EC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629-92F6-4171-A0EB-18B4FD0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BE2-0FE6-49F9-BD48-B67FBF96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5F9F-84E5-435B-9DA9-CC8861D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69CD-CC1F-447F-81EE-C926291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557-25E7-4BD8-93CF-3F89B14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7EA-16D1-4913-99CA-C4612B0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43D-22A9-46E0-AFFF-7B4A3B78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F997-1836-49ED-84E7-26AE55B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D56-10F8-49D8-94A9-D131E18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6B6-6296-4F86-B602-27D78DF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E74-4E3A-44B3-81DA-657967F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7C9-82A7-4C86-A91D-B85C4E6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68E-1150-409F-8563-29EF01EB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9FE-B264-4DF3-B947-A50B542B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8F0-DE3D-49C0-80C4-0970C4DD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BEB-5A1C-4B6F-B2C3-6216E56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CDC-DEE6-43CD-A590-44703BC0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057-C1CA-4DB5-8CFB-ED5D26A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0B9-B977-4777-9086-F3EAD80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7DB-2436-46BF-8A0A-49BEA74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3FF-9322-4903-96EE-2365310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298-92F1-494B-815D-A2D802EF94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EEB0-A935-4091-B94E-EBE06859B0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460872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ª Reunião de Análise da Estratégi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15.02.2019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U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EJERN 2016-2020 (Res 24/2015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lano de Gestão 2018-202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elatório de Gestão 2018 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AEs realizadas em 20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iretrizes e Orientaçõe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76176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ssão – Visão de Futuro  Cadeia de Valo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m Somos? Missão e Val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de queremos chegar? Visão e 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chegaremos? PEJERN 2016-2020 + Plano de Gestão 2018-20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10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trizes e Orien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avaliação do Planejamento Estratégico do TRE/R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lteração na Cadeia de Valor da Justiça Eleitoral do RN - 2018 (Portaria nº 179/2018, 03.08.2018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plantar a metodologia das Reuniões de Análise da Estratégia (RAE) – art. 11 da Res. TRE/RN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nitorar as reuniões periódicas das unidades administrativas, por meio dos planos institucionais de níveis tático e operacional, a partir das atas das respectivas reuniões das Un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tório de Gestão 2018 do TRE/RN, com data limite de apresentação junto ao TCU, em 30.04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estrutura indicada será apresentada em reunião, no dia 19.02.2019, junto a comissão constituída, por meio da Portaria nº 50/2019-GP, de 08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o Justiça em Números – Grupo de Trabalho constituído, por meio da Portaria nº 57-GP, de 15.02.2019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185320" y="5781600"/>
            <a:ext cx="9586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e das ações/projetos do Plano de Gestão 2018-2020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dicadores de Apoio do PEJER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ª Reunião do Ranking da Transparênc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finir pendências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ovo formato de acompanhamento (inclusão de periodicidade de análise)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lustrar sugestões de alterações ou incrementos, a partir de trabalho iniciado na ASPLAN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lher as indicações de servidores para evento de capacitação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car nova data de reuniã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12:26:42Z</dcterms:created>
  <dc:creator>Hermann Dória</dc:creator>
  <dc:description/>
  <dc:language>en-US</dc:language>
  <cp:lastModifiedBy>001197221635</cp:lastModifiedBy>
  <dcterms:modified xsi:type="dcterms:W3CDTF">2019-02-15T11:44:44Z</dcterms:modified>
  <cp:revision>16</cp:revision>
  <dc:subject/>
  <dc:title>Plano de Contratações - 2016</dc:title>
</cp:coreProperties>
</file>